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8E1C-CD14-4E18-8FC7-7816DC1B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7D6E-FC20-4A00-990F-EF025AF4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42C3-0777-48D0-A685-7B161A77F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4385-AECE-4FA9-AEBA-BC8C5E7A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07A1-326E-4DF0-843C-10D36527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666B-64FD-4A77-80B6-3451C3FA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61B7-7ACE-437C-9F36-5BF7D7A6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C919-8F7F-41F5-812A-84D0E881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10D9-3144-4923-ACFC-AD3AD8F1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DA74-5CFF-452A-9CCB-B8F670C8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D08A-AE60-4259-82CF-CF766FA3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4AA4-8243-4BC6-90F1-D98E2ABF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A4D2-8164-4CF8-A8F5-D135AC0F8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990720"/>
            <a:ext cx="7315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cycle at Lunch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 rot="5400000">
            <a:off x="-685800" y="4495680"/>
            <a:ext cx="365760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Velvenda Cooler"/>
              </a:rPr>
              <a:t>Water Bottl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Velvenda Cooler"/>
              <a:ea typeface="Velvenda Cooler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800600" y="4419720"/>
            <a:ext cx="31240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ff"/>
                  </a:solidFill>
                  <a:miter/>
                </a:ln>
                <a:gradFill rotWithShape="0">
                  <a:gsLst>
                    <a:gs pos="0">
                      <a:srgbClr val="0dff87"/>
                    </a:gs>
                    <a:gs pos="100000">
                      <a:srgbClr val="0066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Sybil Green"/>
              </a:rPr>
              <a:t>Milk Cartons</a:t>
            </a:r>
            <a:endParaRPr b="0" lang="en-US" sz="1800" spc="1" strike="noStrike">
              <a:ln w="9360">
                <a:solidFill>
                  <a:srgbClr val="3333ff"/>
                </a:solidFill>
                <a:miter/>
              </a:ln>
              <a:gradFill rotWithShape="0">
                <a:gsLst>
                  <a:gs pos="0">
                    <a:srgbClr val="0dff87"/>
                  </a:gs>
                  <a:gs pos="100000">
                    <a:srgbClr val="006600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Sybil Green"/>
              <a:ea typeface="Sybil Gree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20448000">
            <a:off x="7924320" y="4952880"/>
            <a:ext cx="754200" cy="1517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351000">
            <a:off x="1600200" y="4114440"/>
            <a:ext cx="1685880" cy="2362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8458200" y="152280"/>
            <a:ext cx="504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5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5:15:07Z</dcterms:created>
  <dc:creator>mes5c</dc:creator>
  <dc:description/>
  <dc:language>en-US</dc:language>
  <cp:lastModifiedBy>mes5c</cp:lastModifiedBy>
  <dcterms:modified xsi:type="dcterms:W3CDTF">2011-02-03T13:11:07Z</dcterms:modified>
  <cp:revision>2</cp:revision>
  <dc:subject/>
  <dc:title>Slide 1</dc:title>
</cp:coreProperties>
</file>